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F1136-C51B-4C84-8627-4CD000AEE4AF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Removal of the orthodontic appliances after 22 months of initial treatme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facial photographs at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efinitive restorations with feldspathic porcelain crown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cephalometric, periapical, and panoramic radiographs at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Superimposed cephalometric tracings show the changes from pretreatment 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red 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) to posttreatment (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lack 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)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artial superimpositions: maxilla and mandi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 after 6 ye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acial pretreatment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hotographs showing that most teeth were periodontally compromis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Class I cephalometric characteristic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anoramic radiographs showing generalized periodontal bone lo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Onset of orthodontic extrusion treatment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intraoral progress photograph after 7 month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 eruptive phase followed by stabilizatio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rovisional titanium cylinders connected to the implant central incisors after the orthodontic treatment was finaliz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Initial periapical radiographic examination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eriapical radiographic examination showing the complete orthodontic treatment after 14 months. Note that the bone migrated in the apical direction when an orthodontic force was appli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nd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Atraumatic extractions of the maxillary right and left lateral incisors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placement of implan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95076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anoramic and periapical radiographic examinations showed the correct angulations of adjacent teeth as well as the correct positions of the implants in the maxillary arc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Six-year follow-up of maxillary anterior rehabilitation with forced orthodontic extrusion: Achieving esthetic excellence with a multidisciplinary approach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Luiz Antonio Borelli de Barros, Maurício de Almeida Cardoso, Érica Dorigatti de Avila, Rafael Scaf de Molon, Danilo Furquim Siqueira, Francisco de Assis Mollo-Junior, Leopoldino Capelloza Filho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44, Issue 4, Pages 607-615 (October 2013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2.10.027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2562120"/>
            <a:ext cx="6350040" cy="138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1941480"/>
            <a:ext cx="6350040" cy="2627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2360" y="1974960"/>
            <a:ext cx="6350040" cy="2558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75080" y="762120"/>
            <a:ext cx="4044960" cy="4984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22360" y="1571760"/>
            <a:ext cx="6350040" cy="3363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22360" y="1830240"/>
            <a:ext cx="6350040" cy="284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2360" y="1967040"/>
            <a:ext cx="6350040" cy="2576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955880"/>
            <a:ext cx="6350040" cy="25970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2130480"/>
            <a:ext cx="6350040" cy="2247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839960"/>
            <a:ext cx="6350040" cy="2830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1128600"/>
            <a:ext cx="6350040" cy="4249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897200"/>
            <a:ext cx="6350040" cy="2714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2557440"/>
            <a:ext cx="6350040" cy="1392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2352600"/>
            <a:ext cx="6350040" cy="1803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3 144, 607-615DOI: (10.1016/j.ajodo.2012.10.027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3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